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286-47FA-4A39-A9E3-C7E66E09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A58-0524-4949-ABB3-1A083528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D3E-9571-457F-8B1A-9AA6ABE3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A68-1A6D-47BA-BE26-1940D99C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B53-BD3C-4851-B65E-BE4BCA25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E11-C12C-472C-BFEB-7A9B2C0C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3D0-D564-44F6-A7FB-62DE597D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9B3-93E0-4243-8947-BA7D96AA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EC6-FC6D-4175-A22C-E61E79B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58F-E38C-46A1-90A5-7DC5D31D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44F-EBCC-4B22-9880-85B6E42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443-E1C1-4988-BCC2-E55AAAE4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18ED-00C3-47FD-A034-F29DFEDD7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rans-siberia-tour-three-cities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Berlin Sans FB Demi"/>
              </a:rPr>
              <a:t>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Juice ITC"/>
              </a:rPr>
              <a:t>By:</a:t>
            </a:r>
            <a:r>
              <a:rPr b="0" lang="en-US" sz="48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0" lang="en-US" sz="4800" spc="-1" strike="noStrike">
                <a:solidFill>
                  <a:srgbClr val="cc00ff"/>
                </a:solidFill>
                <a:latin typeface="Juice ITC"/>
              </a:rPr>
              <a:t>Alissa Tam</a:t>
            </a:r>
            <a:r>
              <a:rPr b="0" lang="en-US" sz="48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Juice ITC"/>
              </a:rPr>
              <a:t>and</a:t>
            </a:r>
            <a:r>
              <a:rPr b="0" lang="en-US" sz="48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Juice ITC"/>
              </a:rPr>
              <a:t>Bridget Durgin</a:t>
            </a:r>
            <a:r>
              <a:rPr b="0" lang="en-US" sz="4000" spc="-1" strike="noStrike">
                <a:solidFill>
                  <a:srgbClr val="66ff33"/>
                </a:solidFill>
                <a:latin typeface="Juice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 citizens rely on public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ix Russian cities have underground transportation, Moscow, St. Petersburg, Yekaterinburg, Nizhniy, Novgorod, Novosibirsk, and Sam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vehicles require expensive repair and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Alissa Tam</cp:lastModifiedBy>
  <dcterms:modified xsi:type="dcterms:W3CDTF">2010-12-22T23:14:15Z</dcterms:modified>
  <cp:revision>7</cp:revision>
  <dc:subject/>
  <dc:title>Movement</dc:title>
</cp:coreProperties>
</file>